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AC5-B326-455C-AB5D-18D2241C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CCA-03AA-4FBA-91F2-91B361DA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682-F8D0-4BCC-A430-E4C88C70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DDD-4127-4C7F-B146-C74DAE0B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84B4-F086-4E99-B4EA-3B488106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0CB3-5EA5-48B5-8C2E-EFC1FAE9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AB38-909C-49C1-9513-88894FE0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C91A-CB32-43DB-A6CB-AC815341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F80F-CF62-4D87-AEB5-0E83F8BD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FE6E-AC8D-4BA8-BCA0-0423A75C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F52B-7EE7-46CB-B746-F7ABDD52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284-1502-4FEE-A89F-1708F63C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FFB9-790C-4237-89C2-2CC9D7B4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3CFE-2B5A-4F47-8267-D77EA4E4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5D41-4EC4-4A0F-9DFD-CCCE5F38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0607-DCD1-4EC2-912F-9BA0E9C5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9F0C-7EE7-40C5-8465-F6DA30CE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535-273C-4E8A-86BE-6C3A5D21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3A8-DA24-4520-8DA4-E1C1BC5D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847-3FDA-4845-B2FA-4495E63C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30F-5E6A-4631-8715-904028BA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3CC-8DC8-46B7-870E-CBF8DDCB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B28-AC31-4552-9A6A-8B8BDDEE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149-946E-42AA-A85B-97C8525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4A48-0BBE-42B8-8247-0A68BED5A8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F11B-3825-412F-ADD4-3D2E669368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quarespace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ersonal Publishing on the Web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IT, NYCDO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Squarespace Accou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quarespace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on Create Ac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6680" y="3505320"/>
            <a:ext cx="6257880" cy="2076480"/>
            <a:chOff x="1066680" y="3505320"/>
            <a:chExt cx="6257880" cy="207648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1066680" y="3505320"/>
              <a:ext cx="62578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58680" y="4908960"/>
              <a:ext cx="1111320" cy="617400"/>
            </a:xfrm>
            <a:custGeom>
              <a:avLst/>
              <a:gdLst/>
              <a:ahLst/>
              <a:rect l="l" t="t" r="r" b="b"/>
              <a:pathLst>
                <a:path w="3088" h="1716">
                  <a:moveTo>
                    <a:pt x="5305" y="11126"/>
                  </a:moveTo>
                  <a:cubicBezTo>
                    <a:pt x="5309" y="11105"/>
                    <a:pt x="5302" y="11087"/>
                    <a:pt x="5309" y="11065"/>
                  </a:cubicBezTo>
                  <a:cubicBezTo>
                    <a:pt x="5323" y="11022"/>
                    <a:pt x="5331" y="10997"/>
                    <a:pt x="5368" y="10962"/>
                  </a:cubicBezTo>
                  <a:cubicBezTo>
                    <a:pt x="5437" y="10897"/>
                    <a:pt x="5535" y="10863"/>
                    <a:pt x="5623" y="10832"/>
                  </a:cubicBezTo>
                  <a:cubicBezTo>
                    <a:pt x="5786" y="10774"/>
                    <a:pt x="5953" y="10734"/>
                    <a:pt x="6123" y="10706"/>
                  </a:cubicBezTo>
                  <a:cubicBezTo>
                    <a:pt x="6344" y="10669"/>
                    <a:pt x="6571" y="10656"/>
                    <a:pt x="6794" y="10685"/>
                  </a:cubicBezTo>
                  <a:cubicBezTo>
                    <a:pt x="7234" y="10742"/>
                    <a:pt x="7684" y="10996"/>
                    <a:pt x="7918" y="11380"/>
                  </a:cubicBezTo>
                  <a:cubicBezTo>
                    <a:pt x="8028" y="11561"/>
                    <a:pt x="8079" y="11785"/>
                    <a:pt x="8001" y="11988"/>
                  </a:cubicBezTo>
                  <a:cubicBezTo>
                    <a:pt x="7924" y="12189"/>
                    <a:pt x="7708" y="12291"/>
                    <a:pt x="7513" y="12343"/>
                  </a:cubicBezTo>
                  <a:cubicBezTo>
                    <a:pt x="7147" y="12440"/>
                    <a:pt x="6710" y="12385"/>
                    <a:pt x="6346" y="12307"/>
                  </a:cubicBezTo>
                  <a:cubicBezTo>
                    <a:pt x="5934" y="12219"/>
                    <a:pt x="5336" y="12099"/>
                    <a:pt x="5058" y="11748"/>
                  </a:cubicBezTo>
                  <a:cubicBezTo>
                    <a:pt x="4935" y="11593"/>
                    <a:pt x="4947" y="11474"/>
                    <a:pt x="4979" y="11293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Squarespace Accou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447920"/>
            <a:ext cx="5257800" cy="4593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2895480" y="1569960"/>
            <a:ext cx="3353040" cy="13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809880" y="35053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103400"/>
            <a:ext cx="184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site name also serves as your user name.  It will also appear in your blog’s URL (the http:// pa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18480" y="3236760"/>
            <a:ext cx="18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s must be at least 6 characters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733560" y="4495680"/>
            <a:ext cx="2438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468468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NYCDOE email address.  Squarespace does not spa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733560" y="5867280"/>
            <a:ext cx="1447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01400" y="63388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11430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2767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47242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62485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lidate Your Accou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revent malicious users from creating hundreds of accounts, Squarespace requires you to respond to the verification email sent to your accou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in to your email account, and click on the activation link provid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3625920"/>
            <a:ext cx="710568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r Squarespace Site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mmm… [Your Site Name]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’s add some basic site in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495440"/>
            <a:ext cx="811548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gn In to Your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quarespace log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nk at le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6477120" cy="3038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800600" y="33051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n is the login / site name specified when the account wa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44816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ssword is the password specified when the account wa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43200" y="365760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743200" y="4495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5640" y="55627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Login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295280" y="5257800"/>
            <a:ext cx="2819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33526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45720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6002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54864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bsite Mana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1340640" y="152388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081320" y="1371600"/>
            <a:ext cx="4681800" cy="731880"/>
            <a:chOff x="4081320" y="1371600"/>
            <a:chExt cx="4681800" cy="7318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191120" y="1528920"/>
              <a:ext cx="45720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081320" y="1371600"/>
              <a:ext cx="1489320" cy="731880"/>
            </a:xfrm>
            <a:custGeom>
              <a:avLst/>
              <a:gdLst/>
              <a:ahLst/>
              <a:rect l="l" t="t" r="r" b="b"/>
              <a:pathLst>
                <a:path w="4135" h="2032">
                  <a:moveTo>
                    <a:pt x="2307" y="4522"/>
                  </a:moveTo>
                  <a:cubicBezTo>
                    <a:pt x="2317" y="4516"/>
                    <a:pt x="2321" y="4527"/>
                    <a:pt x="2328" y="4522"/>
                  </a:cubicBezTo>
                  <a:cubicBezTo>
                    <a:pt x="2336" y="4516"/>
                    <a:pt x="2321" y="4515"/>
                    <a:pt x="2330" y="4510"/>
                  </a:cubicBezTo>
                  <a:cubicBezTo>
                    <a:pt x="2344" y="4502"/>
                    <a:pt x="2363" y="4484"/>
                    <a:pt x="2383" y="4474"/>
                  </a:cubicBezTo>
                  <a:cubicBezTo>
                    <a:pt x="2456" y="4437"/>
                    <a:pt x="2536" y="4416"/>
                    <a:pt x="2614" y="4394"/>
                  </a:cubicBezTo>
                  <a:cubicBezTo>
                    <a:pt x="3459" y="4157"/>
                    <a:pt x="4486" y="4121"/>
                    <a:pt x="5332" y="4360"/>
                  </a:cubicBezTo>
                  <a:cubicBezTo>
                    <a:pt x="5600" y="4436"/>
                    <a:pt x="5794" y="4583"/>
                    <a:pt x="5885" y="4854"/>
                  </a:cubicBezTo>
                  <a:cubicBezTo>
                    <a:pt x="5966" y="5094"/>
                    <a:pt x="6000" y="5425"/>
                    <a:pt x="5863" y="5650"/>
                  </a:cubicBezTo>
                  <a:cubicBezTo>
                    <a:pt x="5767" y="5807"/>
                    <a:pt x="5590" y="5896"/>
                    <a:pt x="5428" y="5967"/>
                  </a:cubicBezTo>
                  <a:cubicBezTo>
                    <a:pt x="5118" y="6103"/>
                    <a:pt x="4795" y="6177"/>
                    <a:pt x="4461" y="6223"/>
                  </a:cubicBezTo>
                  <a:cubicBezTo>
                    <a:pt x="4187" y="6261"/>
                    <a:pt x="3915" y="6253"/>
                    <a:pt x="3640" y="6236"/>
                  </a:cubicBezTo>
                  <a:cubicBezTo>
                    <a:pt x="3333" y="6217"/>
                    <a:pt x="3031" y="6170"/>
                    <a:pt x="2732" y="6101"/>
                  </a:cubicBezTo>
                  <a:cubicBezTo>
                    <a:pt x="2430" y="6032"/>
                    <a:pt x="2171" y="5958"/>
                    <a:pt x="1995" y="5686"/>
                  </a:cubicBezTo>
                  <a:cubicBezTo>
                    <a:pt x="1867" y="5488"/>
                    <a:pt x="1799" y="5245"/>
                    <a:pt x="1822" y="5011"/>
                  </a:cubicBezTo>
                  <a:cubicBezTo>
                    <a:pt x="1840" y="4824"/>
                    <a:pt x="2016" y="4700"/>
                    <a:pt x="2169" y="4622"/>
                  </a:cubicBezTo>
                  <a:cubicBezTo>
                    <a:pt x="2319" y="4545"/>
                    <a:pt x="2494" y="4478"/>
                    <a:pt x="2656" y="4433"/>
                  </a:cubicBezTo>
                  <a:cubicBezTo>
                    <a:pt x="2755" y="4406"/>
                    <a:pt x="2849" y="4386"/>
                    <a:pt x="2944" y="4349"/>
                  </a:cubicBezTo>
                  <a:cubicBezTo>
                    <a:pt x="2952" y="4344"/>
                    <a:pt x="2959" y="4338"/>
                    <a:pt x="2967" y="4333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2"/>
          <a:srcRect l="0" t="0" r="26054" b="46047"/>
          <a:stretch/>
        </p:blipFill>
        <p:spPr>
          <a:xfrm>
            <a:off x="838080" y="2362320"/>
            <a:ext cx="7696440" cy="2516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23880" y="50292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see the green boxes at the top of your screen, you are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Here, you can change the design and layout of your s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295280"/>
            <a:ext cx="838440" cy="83844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029200"/>
            <a:ext cx="838440" cy="83808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figure Basic Inform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76760" y="1828800"/>
            <a:ext cx="4314960" cy="244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" y="1828800"/>
            <a:ext cx="4495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A nickname that will be used to identify your post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Tit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he text that will be displayed at the top of your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Subtit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he text that will be displayed underneath the Site Title (OK to leave blank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Topic Tit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Will be displayed in the blue menu bar at the top of your page (i.e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r. Johnson’s Coaching S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Licensing 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pyright  2004, NYCDOE. 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43840" y="4419720"/>
            <a:ext cx="3647880" cy="718920"/>
            <a:chOff x="5343840" y="4419720"/>
            <a:chExt cx="3647880" cy="71892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867280" y="4419720"/>
              <a:ext cx="31244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343840" y="4496040"/>
              <a:ext cx="34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tton after entering informa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338800" y="5410080"/>
            <a:ext cx="3654000" cy="686880"/>
            <a:chOff x="5338800" y="5410080"/>
            <a:chExt cx="3654000" cy="686880"/>
          </a:xfrm>
        </p:grpSpPr>
        <p:sp>
          <p:nvSpPr>
            <p:cNvPr id="158" name=""/>
            <p:cNvSpPr/>
            <p:nvPr/>
          </p:nvSpPr>
          <p:spPr>
            <a:xfrm>
              <a:off x="5338800" y="5454360"/>
              <a:ext cx="365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                link to return to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me Website Manager pag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6016320" y="5410080"/>
              <a:ext cx="8478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304920" y="1066680"/>
            <a:ext cx="8686800" cy="642600"/>
            <a:chOff x="304920" y="1066680"/>
            <a:chExt cx="8686800" cy="642600"/>
          </a:xfrm>
        </p:grpSpPr>
        <p:sp>
          <p:nvSpPr>
            <p:cNvPr id="161" name=""/>
            <p:cNvSpPr/>
            <p:nvPr/>
          </p:nvSpPr>
          <p:spPr>
            <a:xfrm>
              <a:off x="914760" y="1066680"/>
              <a:ext cx="807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each item and enter the appropriate informa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can come back at a later time and change this information if necessar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920" y="1098360"/>
              <a:ext cx="533520" cy="533520"/>
            </a:xfrm>
            <a:prstGeom prst="ellipse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33"/>
                  </a:solidFill>
                  <a:latin typeface="Garamond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800600" y="44956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54864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g Off Your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1600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turn to your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89548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k flips betwe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 websi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to websit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mode you are currently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809880" y="2895480"/>
            <a:ext cx="4495680" cy="2363760"/>
            <a:chOff x="3809880" y="2895480"/>
            <a:chExt cx="4495680" cy="236376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rcRect l="0" t="0" r="59980" b="57298"/>
            <a:stretch/>
          </p:blipFill>
          <p:spPr>
            <a:xfrm>
              <a:off x="3809880" y="2895480"/>
              <a:ext cx="4495680" cy="23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375320" y="2895480"/>
              <a:ext cx="706680" cy="565200"/>
            </a:xfrm>
            <a:custGeom>
              <a:avLst/>
              <a:gdLst/>
              <a:ahLst/>
              <a:rect l="l" t="t" r="r" b="b"/>
              <a:pathLst>
                <a:path w="1960" h="1569">
                  <a:moveTo>
                    <a:pt x="17565" y="8508"/>
                  </a:moveTo>
                  <a:cubicBezTo>
                    <a:pt x="17575" y="8494"/>
                    <a:pt x="17557" y="8499"/>
                    <a:pt x="17565" y="8490"/>
                  </a:cubicBezTo>
                  <a:cubicBezTo>
                    <a:pt x="17578" y="8476"/>
                    <a:pt x="17587" y="8470"/>
                    <a:pt x="17606" y="8458"/>
                  </a:cubicBezTo>
                  <a:cubicBezTo>
                    <a:pt x="17671" y="8417"/>
                    <a:pt x="17739" y="8367"/>
                    <a:pt x="17810" y="8333"/>
                  </a:cubicBezTo>
                  <a:cubicBezTo>
                    <a:pt x="18016" y="8234"/>
                    <a:pt x="18237" y="8212"/>
                    <a:pt x="18461" y="8234"/>
                  </a:cubicBezTo>
                  <a:cubicBezTo>
                    <a:pt x="18643" y="8252"/>
                    <a:pt x="18800" y="8312"/>
                    <a:pt x="18945" y="8423"/>
                  </a:cubicBezTo>
                  <a:cubicBezTo>
                    <a:pt x="19170" y="8595"/>
                    <a:pt x="19314" y="8877"/>
                    <a:pt x="19265" y="9164"/>
                  </a:cubicBezTo>
                  <a:cubicBezTo>
                    <a:pt x="19233" y="9355"/>
                    <a:pt x="19078" y="9501"/>
                    <a:pt x="18922" y="9597"/>
                  </a:cubicBezTo>
                  <a:cubicBezTo>
                    <a:pt x="18689" y="9741"/>
                    <a:pt x="18433" y="9785"/>
                    <a:pt x="18163" y="9788"/>
                  </a:cubicBezTo>
                  <a:cubicBezTo>
                    <a:pt x="17933" y="9791"/>
                    <a:pt x="17687" y="9770"/>
                    <a:pt x="17498" y="9628"/>
                  </a:cubicBezTo>
                  <a:cubicBezTo>
                    <a:pt x="17314" y="9490"/>
                    <a:pt x="17275" y="9229"/>
                    <a:pt x="17331" y="9017"/>
                  </a:cubicBezTo>
                  <a:cubicBezTo>
                    <a:pt x="17372" y="8860"/>
                    <a:pt x="17469" y="8669"/>
                    <a:pt x="17588" y="8555"/>
                  </a:cubicBezTo>
                  <a:cubicBezTo>
                    <a:pt x="17617" y="8535"/>
                    <a:pt x="17646" y="8514"/>
                    <a:pt x="17675" y="8494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59160" y="3032280"/>
              <a:ext cx="1368360" cy="311040"/>
            </a:xfrm>
            <a:custGeom>
              <a:avLst/>
              <a:gdLst/>
              <a:ahLst/>
              <a:rect l="l" t="t" r="r" b="b"/>
              <a:pathLst>
                <a:path w="3801" h="862">
                  <a:moveTo>
                    <a:pt x="9296" y="8726"/>
                  </a:moveTo>
                  <a:cubicBezTo>
                    <a:pt x="9302" y="8716"/>
                    <a:pt x="9296" y="8697"/>
                    <a:pt x="9304" y="8688"/>
                  </a:cubicBezTo>
                  <a:cubicBezTo>
                    <a:pt x="9324" y="8665"/>
                    <a:pt x="9337" y="8660"/>
                    <a:pt x="9359" y="8641"/>
                  </a:cubicBezTo>
                  <a:cubicBezTo>
                    <a:pt x="9403" y="8602"/>
                    <a:pt x="9455" y="8578"/>
                    <a:pt x="9508" y="8555"/>
                  </a:cubicBezTo>
                  <a:cubicBezTo>
                    <a:pt x="9614" y="8509"/>
                    <a:pt x="9721" y="8466"/>
                    <a:pt x="9836" y="8449"/>
                  </a:cubicBezTo>
                  <a:cubicBezTo>
                    <a:pt x="10034" y="8420"/>
                    <a:pt x="10246" y="8418"/>
                    <a:pt x="10445" y="8425"/>
                  </a:cubicBezTo>
                  <a:cubicBezTo>
                    <a:pt x="10727" y="8435"/>
                    <a:pt x="11015" y="8470"/>
                    <a:pt x="11294" y="8513"/>
                  </a:cubicBezTo>
                  <a:cubicBezTo>
                    <a:pt x="11557" y="8554"/>
                    <a:pt x="11826" y="8603"/>
                    <a:pt x="12075" y="8698"/>
                  </a:cubicBezTo>
                  <a:cubicBezTo>
                    <a:pt x="12215" y="8752"/>
                    <a:pt x="12383" y="8818"/>
                    <a:pt x="12445" y="8968"/>
                  </a:cubicBezTo>
                  <a:cubicBezTo>
                    <a:pt x="12449" y="8990"/>
                    <a:pt x="12453" y="9013"/>
                    <a:pt x="12457" y="9035"/>
                  </a:cubicBezTo>
                  <a:cubicBezTo>
                    <a:pt x="12350" y="9148"/>
                    <a:pt x="12310" y="9186"/>
                    <a:pt x="12138" y="9221"/>
                  </a:cubicBezTo>
                  <a:cubicBezTo>
                    <a:pt x="11714" y="9307"/>
                    <a:pt x="11258" y="9281"/>
                    <a:pt x="10828" y="9282"/>
                  </a:cubicBezTo>
                  <a:cubicBezTo>
                    <a:pt x="10197" y="9283"/>
                    <a:pt x="9543" y="9331"/>
                    <a:pt x="8914" y="9271"/>
                  </a:cubicBezTo>
                  <a:cubicBezTo>
                    <a:pt x="8811" y="9261"/>
                    <a:pt x="8678" y="9244"/>
                    <a:pt x="8657" y="9121"/>
                  </a:cubicBezTo>
                  <a:cubicBezTo>
                    <a:pt x="8639" y="9016"/>
                    <a:pt x="8710" y="8905"/>
                    <a:pt x="8781" y="8836"/>
                  </a:cubicBezTo>
                  <a:cubicBezTo>
                    <a:pt x="8901" y="8719"/>
                    <a:pt x="9061" y="8676"/>
                    <a:pt x="9220" y="8651"/>
                  </a:cubicBezTo>
                  <a:cubicBezTo>
                    <a:pt x="9336" y="8633"/>
                    <a:pt x="9448" y="8632"/>
                    <a:pt x="9565" y="8631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257800" y="1600200"/>
            <a:ext cx="3009960" cy="944640"/>
            <a:chOff x="5257800" y="1600200"/>
            <a:chExt cx="3009960" cy="94464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5257800" y="1600200"/>
              <a:ext cx="30099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53120" y="1903320"/>
              <a:ext cx="1967040" cy="641520"/>
            </a:xfrm>
            <a:custGeom>
              <a:avLst/>
              <a:gdLst/>
              <a:ahLst/>
              <a:rect l="l" t="t" r="r" b="b"/>
              <a:pathLst>
                <a:path w="5462" h="1782">
                  <a:moveTo>
                    <a:pt x="14854" y="5559"/>
                  </a:moveTo>
                  <a:cubicBezTo>
                    <a:pt x="14864" y="5555"/>
                    <a:pt x="14872" y="5541"/>
                    <a:pt x="14879" y="5538"/>
                  </a:cubicBezTo>
                  <a:cubicBezTo>
                    <a:pt x="14895" y="5532"/>
                    <a:pt x="14918" y="5530"/>
                    <a:pt x="14937" y="5522"/>
                  </a:cubicBezTo>
                  <a:cubicBezTo>
                    <a:pt x="14973" y="5506"/>
                    <a:pt x="15013" y="5488"/>
                    <a:pt x="15049" y="5474"/>
                  </a:cubicBezTo>
                  <a:cubicBezTo>
                    <a:pt x="15316" y="5374"/>
                    <a:pt x="15585" y="5338"/>
                    <a:pt x="15869" y="5319"/>
                  </a:cubicBezTo>
                  <a:cubicBezTo>
                    <a:pt x="16241" y="5294"/>
                    <a:pt x="16613" y="5286"/>
                    <a:pt x="16986" y="5286"/>
                  </a:cubicBezTo>
                  <a:cubicBezTo>
                    <a:pt x="17299" y="5286"/>
                    <a:pt x="17611" y="5294"/>
                    <a:pt x="17922" y="5327"/>
                  </a:cubicBezTo>
                  <a:cubicBezTo>
                    <a:pt x="18284" y="5365"/>
                    <a:pt x="18635" y="5428"/>
                    <a:pt x="18972" y="5573"/>
                  </a:cubicBezTo>
                  <a:cubicBezTo>
                    <a:pt x="19270" y="5702"/>
                    <a:pt x="19625" y="6003"/>
                    <a:pt x="19765" y="6306"/>
                  </a:cubicBezTo>
                  <a:cubicBezTo>
                    <a:pt x="19816" y="6418"/>
                    <a:pt x="19816" y="6472"/>
                    <a:pt x="19727" y="6548"/>
                  </a:cubicBezTo>
                  <a:cubicBezTo>
                    <a:pt x="19516" y="6729"/>
                    <a:pt x="19179" y="6776"/>
                    <a:pt x="18920" y="6842"/>
                  </a:cubicBezTo>
                  <a:cubicBezTo>
                    <a:pt x="18659" y="6908"/>
                    <a:pt x="18412" y="6955"/>
                    <a:pt x="18144" y="6984"/>
                  </a:cubicBezTo>
                  <a:cubicBezTo>
                    <a:pt x="17276" y="7080"/>
                    <a:pt x="16383" y="7116"/>
                    <a:pt x="15520" y="6960"/>
                  </a:cubicBezTo>
                  <a:cubicBezTo>
                    <a:pt x="15314" y="6923"/>
                    <a:pt x="15119" y="6835"/>
                    <a:pt x="14935" y="6736"/>
                  </a:cubicBezTo>
                  <a:cubicBezTo>
                    <a:pt x="14794" y="6660"/>
                    <a:pt x="14665" y="6565"/>
                    <a:pt x="14547" y="6457"/>
                  </a:cubicBezTo>
                  <a:cubicBezTo>
                    <a:pt x="14464" y="6381"/>
                    <a:pt x="14358" y="6273"/>
                    <a:pt x="14341" y="6155"/>
                  </a:cubicBezTo>
                  <a:cubicBezTo>
                    <a:pt x="14312" y="5958"/>
                    <a:pt x="14547" y="5834"/>
                    <a:pt x="14690" y="5757"/>
                  </a:cubicBezTo>
                  <a:cubicBezTo>
                    <a:pt x="14804" y="5696"/>
                    <a:pt x="14929" y="5656"/>
                    <a:pt x="15047" y="5604"/>
                  </a:cubicBezTo>
                  <a:cubicBezTo>
                    <a:pt x="15116" y="5574"/>
                    <a:pt x="15177" y="5531"/>
                    <a:pt x="15244" y="5499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2514600" y="2437920"/>
            <a:ext cx="2666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90920" y="3429000"/>
            <a:ext cx="1218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5454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log out of your account.  Logging off prevents other users from changing y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71800" y="3504960"/>
            <a:ext cx="35812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9718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6765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54864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 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not to look at your not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se all Internet window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Internet Explorer.  Go to your new Squarespace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 in to your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 to the Website Manager (the Green Scree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urn to your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off of your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eparing the Projec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quarespace Journal Entrie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urriculum Descrip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in the Personal Publishing course will learn how to create personal publishing sites, maintain blogs on those sites, and add links and pictures to their si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ly, participants will be introduced to the OIT blogaramas for math and litera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r Squarespace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Squarespace sites start with two pages: the Welcome and the Jour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quarespace, each page is called a </a:t>
            </a:r>
            <a:r>
              <a:rPr b="0" i="1" lang="en-US" sz="3000" spc="-1" strike="noStrike">
                <a:solidFill>
                  <a:srgbClr val="000000"/>
                </a:solidFill>
                <a:latin typeface="Bauhaus 93"/>
              </a:rPr>
              <a:t>mod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e is the initial Welcome modu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66880" y="4210200"/>
            <a:ext cx="72104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ournal Modu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ourn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nk at the left of you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journal entries yet – let’s post a journ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r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8153280" cy="1212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880" y="1752480"/>
            <a:ext cx="838440" cy="83844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419720"/>
            <a:ext cx="838440" cy="83808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st a Journal 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38680" y="1523880"/>
            <a:ext cx="2076480" cy="695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06400" y="156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 to y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581280" y="2610000"/>
            <a:ext cx="5438880" cy="1123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66680" y="2681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 new journal e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733920" y="3832200"/>
            <a:ext cx="3128760" cy="27208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43000" y="15238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7432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09480" y="4038480"/>
            <a:ext cx="3124080" cy="1739880"/>
            <a:chOff x="609480" y="4038480"/>
            <a:chExt cx="3124080" cy="1739880"/>
          </a:xfrm>
        </p:grpSpPr>
        <p:sp>
          <p:nvSpPr>
            <p:cNvPr id="203" name=""/>
            <p:cNvSpPr/>
            <p:nvPr/>
          </p:nvSpPr>
          <p:spPr>
            <a:xfrm>
              <a:off x="609480" y="4038480"/>
              <a:ext cx="3124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ize the Journal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ry window so you can see the whole window (you may have to move the window up or down to see the whole thing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800" y="4114800"/>
              <a:ext cx="533160" cy="533160"/>
            </a:xfrm>
            <a:prstGeom prst="ellipse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33"/>
                  </a:solidFill>
                  <a:latin typeface="Garamond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st a Journal 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666880" y="1054080"/>
            <a:ext cx="6248520" cy="5423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62120" y="16635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your journal 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03516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journal entry in the big text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486396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amp; 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ublish your journal 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120760"/>
            <a:ext cx="1904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025880"/>
            <a:ext cx="2209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5854680"/>
            <a:ext cx="4800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66356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31114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49402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360" y="22334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st a Journal 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0" t="0" r="24444" b="0"/>
          <a:stretch/>
        </p:blipFill>
        <p:spPr>
          <a:xfrm>
            <a:off x="3581280" y="1676520"/>
            <a:ext cx="5181840" cy="2138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12760" y="1712880"/>
            <a:ext cx="329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lack rectang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white text contain options to modify your journal.  They appear only while you are logged in to y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276720" y="20574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971800" y="28191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52120" y="4267080"/>
            <a:ext cx="77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reate a second journal entry, and insert a link to an educational b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0" t="0" r="61510" b="73179"/>
          <a:stretch/>
        </p:blipFill>
        <p:spPr>
          <a:xfrm>
            <a:off x="4267080" y="4989600"/>
            <a:ext cx="4038840" cy="877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04920" y="175248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9880" y="5232240"/>
            <a:ext cx="36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 new journal e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4191120"/>
            <a:ext cx="53316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518148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st a Journal Entry with a Lin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bright="-12000"/>
          </a:blip>
          <a:srcRect l="0" t="0" r="17608" b="0"/>
          <a:stretch/>
        </p:blipFill>
        <p:spPr>
          <a:xfrm>
            <a:off x="3962520" y="129528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0" y="1600200"/>
            <a:ext cx="3048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39625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1295280"/>
            <a:ext cx="2209680" cy="1816200"/>
            <a:chOff x="304920" y="1295280"/>
            <a:chExt cx="2209680" cy="1816200"/>
          </a:xfrm>
        </p:grpSpPr>
        <p:sp>
          <p:nvSpPr>
            <p:cNvPr id="233" name=""/>
            <p:cNvSpPr/>
            <p:nvPr/>
          </p:nvSpPr>
          <p:spPr>
            <a:xfrm>
              <a:off x="380880" y="1371600"/>
              <a:ext cx="2133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th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 Weblogg-ed Education Blog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 your tit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4920" y="1295280"/>
              <a:ext cx="533160" cy="533520"/>
            </a:xfrm>
            <a:prstGeom prst="ellipse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33"/>
                  </a:solidFill>
                  <a:latin typeface="Garamond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80880" y="373068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th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 education blog has some great information about blogging for educational purpos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your journal 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65760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st a Journal Entry with a Lin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581960" cy="1365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218240" y="1523880"/>
            <a:ext cx="503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text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 education blo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42040" y="3581280"/>
            <a:ext cx="67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the icon with the chain link, the world and the a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952880" y="2590560"/>
            <a:ext cx="10670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514240" y="190512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124160" y="4495680"/>
            <a:ext cx="4638960" cy="133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5800" y="14479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342900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040" y="4343400"/>
            <a:ext cx="3673440" cy="1465560"/>
            <a:chOff x="365040" y="4343400"/>
            <a:chExt cx="3673440" cy="1465560"/>
          </a:xfrm>
        </p:grpSpPr>
        <p:sp>
          <p:nvSpPr>
            <p:cNvPr id="247" name=""/>
            <p:cNvSpPr/>
            <p:nvPr/>
          </p:nvSpPr>
          <p:spPr>
            <a:xfrm>
              <a:off x="365040" y="4343400"/>
              <a:ext cx="3673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ttp://www.weblogg-ed.co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the box and click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200" y="4343400"/>
              <a:ext cx="533520" cy="533520"/>
            </a:xfrm>
            <a:prstGeom prst="ellipse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33"/>
                  </a:solidFill>
                  <a:latin typeface="Garamond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048120" y="53341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st a Journal Entry with a Lin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057400" y="1600200"/>
            <a:ext cx="6781680" cy="2797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495680" y="5029200"/>
            <a:ext cx="4038840" cy="657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04920" y="1657440"/>
            <a:ext cx="1752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urned into a link.  The icon of a square with an arrow pointing out of it means the link will be opened in a new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76520" y="373356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64960" y="5181480"/>
            <a:ext cx="30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amp; Clo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7524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51055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77000" y="5070600"/>
            <a:ext cx="1790640" cy="749160"/>
          </a:xfrm>
          <a:custGeom>
            <a:avLst/>
            <a:gdLst/>
            <a:ahLst/>
            <a:rect l="l" t="t" r="r" b="b"/>
            <a:pathLst>
              <a:path w="4977" h="2081">
                <a:moveTo>
                  <a:pt x="17020" y="14370"/>
                </a:moveTo>
                <a:cubicBezTo>
                  <a:pt x="17097" y="14351"/>
                  <a:pt x="17172" y="14332"/>
                  <a:pt x="17251" y="14319"/>
                </a:cubicBezTo>
                <a:cubicBezTo>
                  <a:pt x="17367" y="14301"/>
                  <a:pt x="17483" y="14290"/>
                  <a:pt x="17600" y="14277"/>
                </a:cubicBezTo>
                <a:cubicBezTo>
                  <a:pt x="17829" y="14251"/>
                  <a:pt x="18058" y="14238"/>
                  <a:pt x="18288" y="14234"/>
                </a:cubicBezTo>
                <a:cubicBezTo>
                  <a:pt x="18725" y="14226"/>
                  <a:pt x="19165" y="14265"/>
                  <a:pt x="19590" y="14368"/>
                </a:cubicBezTo>
                <a:cubicBezTo>
                  <a:pt x="20105" y="14493"/>
                  <a:pt x="20617" y="14738"/>
                  <a:pt x="21061" y="15027"/>
                </a:cubicBezTo>
                <a:cubicBezTo>
                  <a:pt x="21150" y="15085"/>
                  <a:pt x="21342" y="15195"/>
                  <a:pt x="21296" y="15331"/>
                </a:cubicBezTo>
                <a:cubicBezTo>
                  <a:pt x="21246" y="15478"/>
                  <a:pt x="21027" y="15570"/>
                  <a:pt x="20902" y="15630"/>
                </a:cubicBezTo>
                <a:cubicBezTo>
                  <a:pt x="20552" y="15799"/>
                  <a:pt x="20158" y="15931"/>
                  <a:pt x="19782" y="16026"/>
                </a:cubicBezTo>
                <a:cubicBezTo>
                  <a:pt x="19532" y="16089"/>
                  <a:pt x="19275" y="16130"/>
                  <a:pt x="19018" y="16151"/>
                </a:cubicBezTo>
                <a:cubicBezTo>
                  <a:pt x="18501" y="16194"/>
                  <a:pt x="17985" y="16128"/>
                  <a:pt x="17494" y="15967"/>
                </a:cubicBezTo>
                <a:cubicBezTo>
                  <a:pt x="17256" y="15889"/>
                  <a:pt x="17026" y="15797"/>
                  <a:pt x="16798" y="15693"/>
                </a:cubicBezTo>
                <a:cubicBezTo>
                  <a:pt x="16603" y="15604"/>
                  <a:pt x="16295" y="15462"/>
                  <a:pt x="16324" y="15196"/>
                </a:cubicBezTo>
                <a:cubicBezTo>
                  <a:pt x="16356" y="14906"/>
                  <a:pt x="16692" y="14670"/>
                  <a:pt x="16908" y="14521"/>
                </a:cubicBezTo>
                <a:cubicBezTo>
                  <a:pt x="17125" y="14372"/>
                  <a:pt x="17354" y="14253"/>
                  <a:pt x="17592" y="14144"/>
                </a:cubicBezTo>
                <a:cubicBezTo>
                  <a:pt x="17638" y="14124"/>
                  <a:pt x="17683" y="14103"/>
                  <a:pt x="17729" y="14083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 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t an entry of your own to your journal about an educational web site you have found use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 a link to the site and a description that would be useful to an educator who may have never visited it bef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ew Your Jour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"/>
          <p:cNvSpPr/>
          <p:nvPr/>
        </p:nvSpPr>
        <p:spPr>
          <a:xfrm>
            <a:off x="999360" y="129528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ut of y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04920" y="1866960"/>
            <a:ext cx="6324480" cy="723960"/>
            <a:chOff x="304920" y="1866960"/>
            <a:chExt cx="6324480" cy="72396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304920" y="1866960"/>
              <a:ext cx="63244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102200" y="2086200"/>
              <a:ext cx="598320" cy="368280"/>
            </a:xfrm>
            <a:custGeom>
              <a:avLst/>
              <a:gdLst/>
              <a:ahLst/>
              <a:rect l="l" t="t" r="r" b="b"/>
              <a:pathLst>
                <a:path w="1662" h="1024">
                  <a:moveTo>
                    <a:pt x="18061" y="5102"/>
                  </a:moveTo>
                  <a:cubicBezTo>
                    <a:pt x="18059" y="5093"/>
                    <a:pt x="18045" y="5082"/>
                    <a:pt x="18045" y="5066"/>
                  </a:cubicBezTo>
                  <a:cubicBezTo>
                    <a:pt x="18045" y="5047"/>
                    <a:pt x="18048" y="5019"/>
                    <a:pt x="18055" y="5001"/>
                  </a:cubicBezTo>
                  <a:cubicBezTo>
                    <a:pt x="18069" y="4966"/>
                    <a:pt x="18124" y="4937"/>
                    <a:pt x="18155" y="4923"/>
                  </a:cubicBezTo>
                  <a:cubicBezTo>
                    <a:pt x="18275" y="4867"/>
                    <a:pt x="18416" y="4845"/>
                    <a:pt x="18547" y="4842"/>
                  </a:cubicBezTo>
                  <a:cubicBezTo>
                    <a:pt x="18696" y="4838"/>
                    <a:pt x="18840" y="4864"/>
                    <a:pt x="18976" y="4925"/>
                  </a:cubicBezTo>
                  <a:cubicBezTo>
                    <a:pt x="19142" y="5000"/>
                    <a:pt x="19292" y="5143"/>
                    <a:pt x="19367" y="5308"/>
                  </a:cubicBezTo>
                  <a:cubicBezTo>
                    <a:pt x="19421" y="5426"/>
                    <a:pt x="19420" y="5552"/>
                    <a:pt x="19349" y="5662"/>
                  </a:cubicBezTo>
                  <a:cubicBezTo>
                    <a:pt x="19248" y="5818"/>
                    <a:pt x="19042" y="5858"/>
                    <a:pt x="18871" y="5865"/>
                  </a:cubicBezTo>
                  <a:cubicBezTo>
                    <a:pt x="18586" y="5877"/>
                    <a:pt x="18279" y="5792"/>
                    <a:pt x="18035" y="5646"/>
                  </a:cubicBezTo>
                  <a:cubicBezTo>
                    <a:pt x="17921" y="5578"/>
                    <a:pt x="17794" y="5483"/>
                    <a:pt x="17751" y="5351"/>
                  </a:cubicBezTo>
                  <a:cubicBezTo>
                    <a:pt x="17717" y="5247"/>
                    <a:pt x="17759" y="5162"/>
                    <a:pt x="17816" y="5078"/>
                  </a:cubicBezTo>
                  <a:cubicBezTo>
                    <a:pt x="17832" y="5058"/>
                    <a:pt x="17847" y="5037"/>
                    <a:pt x="17863" y="5017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286000" y="3456000"/>
            <a:ext cx="6134040" cy="2639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28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ats!  You’ve posted the first three entries to your journ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2193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rse Prerequisi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must have completed the 15-hour MC2 tablet trai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should be familiar with using the Internet and checking their NYCDOE emai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HTML is helpful but by no means necessa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eparing the Projec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quarespace Style Customization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ustomize Your Site’s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eat benefit to online publishing software is its ability to make changes to a large number of web pages at o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efault Squarespace font size is too small to read.  Let’s make the font size larg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ke the Site Font Size Lar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4334040"/>
            <a:ext cx="7543800" cy="7570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330560" y="3352680"/>
            <a:ext cx="36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 &amp; sty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39360" y="528012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y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364320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24480" y="486216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16002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22096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79040" y="169056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into y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79400" y="230040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Website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276720"/>
            <a:ext cx="53316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18148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ke the Site Font Size Lar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8487000" cy="1935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63680" y="1279440"/>
            <a:ext cx="791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site comes with one style ---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Iss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the font size larger, we ne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lic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Iss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e and rename it to ou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 new style to make the font size lar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tiv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 new style for it to become the style current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39320" y="5562720"/>
            <a:ext cx="506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to create a new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51055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54864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uplicate a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6400800" cy="2681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288160" y="4967280"/>
            <a:ext cx="58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rse we’re sure!  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e Sty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514240" y="3504960"/>
            <a:ext cx="6094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52480" y="48769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dit Your New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33520" y="4230720"/>
            <a:ext cx="8001000" cy="1332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52280" y="2909880"/>
            <a:ext cx="8686800" cy="1112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4760" y="41292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6476760" y="36716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7680" y="119052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space has hundreds of configuration options.  Later, you’ll have a chance to explore fur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for now – do exactly as your instructor tells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19040" y="565308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yle 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791320" y="5486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40384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5562720"/>
            <a:ext cx="53316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dit Your New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790720" y="1371600"/>
            <a:ext cx="6048360" cy="3019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65040" y="210168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a name for your style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yle 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5040" y="3579840"/>
            <a:ext cx="21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name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 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8560" y="510552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to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1905120"/>
            <a:ext cx="198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362320" y="3276360"/>
            <a:ext cx="1981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962520" y="4419360"/>
            <a:ext cx="2590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16002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42670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49528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dit Your New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7543800" cy="2457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34120" y="3819600"/>
            <a:ext cx="3276360" cy="2225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80880" y="2085840"/>
            <a:ext cx="123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Ele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1905120"/>
            <a:ext cx="3657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373392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be chang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of 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15238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03680" y="4267080"/>
            <a:ext cx="16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ju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benea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30960" y="4098960"/>
            <a:ext cx="666720" cy="309600"/>
          </a:xfrm>
          <a:custGeom>
            <a:avLst/>
            <a:gdLst/>
            <a:ahLst/>
            <a:rect l="l" t="t" r="r" b="b"/>
            <a:pathLst>
              <a:path w="1852" h="861">
                <a:moveTo>
                  <a:pt x="15412" y="11398"/>
                </a:moveTo>
                <a:cubicBezTo>
                  <a:pt x="15469" y="11401"/>
                  <a:pt x="15527" y="11402"/>
                  <a:pt x="15584" y="11402"/>
                </a:cubicBezTo>
                <a:cubicBezTo>
                  <a:pt x="15828" y="11403"/>
                  <a:pt x="16101" y="11366"/>
                  <a:pt x="16337" y="11430"/>
                </a:cubicBezTo>
                <a:cubicBezTo>
                  <a:pt x="16482" y="11469"/>
                  <a:pt x="16632" y="11549"/>
                  <a:pt x="16749" y="11642"/>
                </a:cubicBezTo>
                <a:cubicBezTo>
                  <a:pt x="16844" y="11718"/>
                  <a:pt x="16947" y="11830"/>
                  <a:pt x="16935" y="11963"/>
                </a:cubicBezTo>
                <a:cubicBezTo>
                  <a:pt x="16923" y="12089"/>
                  <a:pt x="16772" y="12152"/>
                  <a:pt x="16671" y="12187"/>
                </a:cubicBezTo>
                <a:cubicBezTo>
                  <a:pt x="16426" y="12273"/>
                  <a:pt x="16146" y="12255"/>
                  <a:pt x="15896" y="12206"/>
                </a:cubicBezTo>
                <a:cubicBezTo>
                  <a:pt x="15660" y="12160"/>
                  <a:pt x="15387" y="12078"/>
                  <a:pt x="15204" y="11913"/>
                </a:cubicBezTo>
                <a:cubicBezTo>
                  <a:pt x="15124" y="11841"/>
                  <a:pt x="15059" y="11730"/>
                  <a:pt x="15100" y="11622"/>
                </a:cubicBezTo>
                <a:cubicBezTo>
                  <a:pt x="15139" y="11519"/>
                  <a:pt x="15273" y="11451"/>
                  <a:pt x="15371" y="11422"/>
                </a:cubicBezTo>
                <a:cubicBezTo>
                  <a:pt x="15520" y="11378"/>
                  <a:pt x="15675" y="11384"/>
                  <a:pt x="15828" y="11384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403848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37339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dit Your New Styl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447920" y="1940040"/>
            <a:ext cx="6734160" cy="2860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59720" y="1219320"/>
            <a:ext cx="50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a… so many options to chan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64120" y="1957320"/>
            <a:ext cx="1922400" cy="590760"/>
          </a:xfrm>
          <a:custGeom>
            <a:avLst/>
            <a:gdLst/>
            <a:ahLst/>
            <a:rect l="l" t="t" r="r" b="b"/>
            <a:pathLst>
              <a:path w="5336" h="1640">
                <a:moveTo>
                  <a:pt x="15530" y="5850"/>
                </a:moveTo>
                <a:cubicBezTo>
                  <a:pt x="15532" y="5848"/>
                  <a:pt x="15512" y="5817"/>
                  <a:pt x="15512" y="5817"/>
                </a:cubicBezTo>
                <a:cubicBezTo>
                  <a:pt x="15519" y="5808"/>
                  <a:pt x="15537" y="5782"/>
                  <a:pt x="15553" y="5772"/>
                </a:cubicBezTo>
                <a:cubicBezTo>
                  <a:pt x="15790" y="5625"/>
                  <a:pt x="16127" y="5567"/>
                  <a:pt x="16396" y="5538"/>
                </a:cubicBezTo>
                <a:cubicBezTo>
                  <a:pt x="16806" y="5493"/>
                  <a:pt x="17214" y="5524"/>
                  <a:pt x="17618" y="5605"/>
                </a:cubicBezTo>
                <a:cubicBezTo>
                  <a:pt x="17993" y="5680"/>
                  <a:pt x="18379" y="5777"/>
                  <a:pt x="18729" y="5931"/>
                </a:cubicBezTo>
                <a:cubicBezTo>
                  <a:pt x="18949" y="6028"/>
                  <a:pt x="19251" y="6160"/>
                  <a:pt x="19373" y="6385"/>
                </a:cubicBezTo>
                <a:cubicBezTo>
                  <a:pt x="19504" y="6627"/>
                  <a:pt x="19257" y="6810"/>
                  <a:pt x="19065" y="6887"/>
                </a:cubicBezTo>
                <a:cubicBezTo>
                  <a:pt x="18436" y="7140"/>
                  <a:pt x="17665" y="7107"/>
                  <a:pt x="17006" y="7034"/>
                </a:cubicBezTo>
                <a:cubicBezTo>
                  <a:pt x="16162" y="6941"/>
                  <a:pt x="15301" y="6736"/>
                  <a:pt x="14526" y="6383"/>
                </a:cubicBezTo>
                <a:cubicBezTo>
                  <a:pt x="14321" y="6289"/>
                  <a:pt x="14216" y="6196"/>
                  <a:pt x="14069" y="6045"/>
                </a:cubicBezTo>
                <a:cubicBezTo>
                  <a:pt x="14193" y="5865"/>
                  <a:pt x="14248" y="5796"/>
                  <a:pt x="14488" y="5707"/>
                </a:cubicBezTo>
                <a:cubicBezTo>
                  <a:pt x="14836" y="5578"/>
                  <a:pt x="15200" y="5503"/>
                  <a:pt x="15569" y="5465"/>
                </a:cubicBezTo>
                <a:cubicBezTo>
                  <a:pt x="15798" y="5441"/>
                  <a:pt x="16029" y="5441"/>
                  <a:pt x="16259" y="5439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38880" y="10954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siz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heri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564200" y="5207040"/>
            <a:ext cx="5450760" cy="584280"/>
            <a:chOff x="1564200" y="5207040"/>
            <a:chExt cx="5450760" cy="58428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2438280" y="5207040"/>
              <a:ext cx="23616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564200" y="5319720"/>
              <a:ext cx="545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he                                   button when finishe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705720" y="114300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520704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dit Your New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200400" cy="2190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rcRect l="3687" t="36494" r="31187" b="0"/>
          <a:stretch/>
        </p:blipFill>
        <p:spPr>
          <a:xfrm>
            <a:off x="457200" y="3456000"/>
            <a:ext cx="4038480" cy="17240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05120" y="1979640"/>
            <a:ext cx="273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ju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benea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50040" y="1674720"/>
            <a:ext cx="726840" cy="282600"/>
          </a:xfrm>
          <a:custGeom>
            <a:avLst/>
            <a:gdLst/>
            <a:ahLst/>
            <a:rect l="l" t="t" r="r" b="b"/>
            <a:pathLst>
              <a:path w="2023" h="784">
                <a:moveTo>
                  <a:pt x="15688" y="5363"/>
                </a:moveTo>
                <a:cubicBezTo>
                  <a:pt x="15703" y="5353"/>
                  <a:pt x="15718" y="5327"/>
                  <a:pt x="15741" y="5319"/>
                </a:cubicBezTo>
                <a:cubicBezTo>
                  <a:pt x="15809" y="5295"/>
                  <a:pt x="15889" y="5287"/>
                  <a:pt x="15961" y="5288"/>
                </a:cubicBezTo>
                <a:cubicBezTo>
                  <a:pt x="16110" y="5289"/>
                  <a:pt x="16253" y="5316"/>
                  <a:pt x="16396" y="5357"/>
                </a:cubicBezTo>
                <a:cubicBezTo>
                  <a:pt x="16611" y="5419"/>
                  <a:pt x="16844" y="5518"/>
                  <a:pt x="17018" y="5662"/>
                </a:cubicBezTo>
                <a:cubicBezTo>
                  <a:pt x="17085" y="5717"/>
                  <a:pt x="17216" y="5843"/>
                  <a:pt x="17137" y="5941"/>
                </a:cubicBezTo>
                <a:cubicBezTo>
                  <a:pt x="17047" y="6052"/>
                  <a:pt x="16834" y="6062"/>
                  <a:pt x="16708" y="6069"/>
                </a:cubicBezTo>
                <a:cubicBezTo>
                  <a:pt x="16455" y="6084"/>
                  <a:pt x="16195" y="6068"/>
                  <a:pt x="15943" y="6041"/>
                </a:cubicBezTo>
                <a:cubicBezTo>
                  <a:pt x="15731" y="6018"/>
                  <a:pt x="15515" y="5992"/>
                  <a:pt x="15310" y="5933"/>
                </a:cubicBezTo>
                <a:cubicBezTo>
                  <a:pt x="15218" y="5907"/>
                  <a:pt x="15201" y="5878"/>
                  <a:pt x="15137" y="5831"/>
                </a:cubicBezTo>
                <a:cubicBezTo>
                  <a:pt x="15193" y="5719"/>
                  <a:pt x="15303" y="5686"/>
                  <a:pt x="15416" y="5630"/>
                </a:cubicBezTo>
                <a:cubicBezTo>
                  <a:pt x="15599" y="5539"/>
                  <a:pt x="15791" y="5470"/>
                  <a:pt x="15979" y="5390"/>
                </a:cubicBezTo>
                <a:cubicBezTo>
                  <a:pt x="16018" y="5373"/>
                  <a:pt x="16057" y="5356"/>
                  <a:pt x="16096" y="5339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343400" y="1905120"/>
            <a:ext cx="99072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686560" y="43419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siz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p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81480" y="3946680"/>
            <a:ext cx="1141200" cy="411120"/>
          </a:xfrm>
          <a:custGeom>
            <a:avLst/>
            <a:gdLst/>
            <a:ahLst/>
            <a:rect l="l" t="t" r="r" b="b"/>
            <a:pathLst>
              <a:path w="3171" h="1140">
                <a:moveTo>
                  <a:pt x="9938" y="13017"/>
                </a:moveTo>
                <a:cubicBezTo>
                  <a:pt x="9943" y="13015"/>
                  <a:pt x="9942" y="13001"/>
                  <a:pt x="9951" y="12997"/>
                </a:cubicBezTo>
                <a:cubicBezTo>
                  <a:pt x="9974" y="12987"/>
                  <a:pt x="10002" y="12977"/>
                  <a:pt x="10028" y="12971"/>
                </a:cubicBezTo>
                <a:cubicBezTo>
                  <a:pt x="10167" y="12939"/>
                  <a:pt x="10315" y="12930"/>
                  <a:pt x="10457" y="12920"/>
                </a:cubicBezTo>
                <a:cubicBezTo>
                  <a:pt x="11055" y="12878"/>
                  <a:pt x="11752" y="12874"/>
                  <a:pt x="12267" y="13227"/>
                </a:cubicBezTo>
                <a:cubicBezTo>
                  <a:pt x="12426" y="13336"/>
                  <a:pt x="12629" y="13552"/>
                  <a:pt x="12545" y="13766"/>
                </a:cubicBezTo>
                <a:cubicBezTo>
                  <a:pt x="12475" y="13943"/>
                  <a:pt x="12206" y="13979"/>
                  <a:pt x="12047" y="13998"/>
                </a:cubicBezTo>
                <a:cubicBezTo>
                  <a:pt x="11545" y="14058"/>
                  <a:pt x="11002" y="13984"/>
                  <a:pt x="10508" y="13900"/>
                </a:cubicBezTo>
                <a:cubicBezTo>
                  <a:pt x="10229" y="13852"/>
                  <a:pt x="9935" y="13784"/>
                  <a:pt x="9683" y="13648"/>
                </a:cubicBezTo>
                <a:cubicBezTo>
                  <a:pt x="9556" y="13579"/>
                  <a:pt x="9388" y="13450"/>
                  <a:pt x="9393" y="13286"/>
                </a:cubicBezTo>
                <a:cubicBezTo>
                  <a:pt x="9399" y="13103"/>
                  <a:pt x="9645" y="13035"/>
                  <a:pt x="9781" y="12995"/>
                </a:cubicBezTo>
                <a:cubicBezTo>
                  <a:pt x="10040" y="12919"/>
                  <a:pt x="10317" y="12909"/>
                  <a:pt x="10585" y="12887"/>
                </a:cubicBezTo>
                <a:cubicBezTo>
                  <a:pt x="10642" y="12882"/>
                  <a:pt x="10700" y="12878"/>
                  <a:pt x="10757" y="12873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4571640" y="426564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205596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80844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393000" y="5435640"/>
            <a:ext cx="5450760" cy="584280"/>
            <a:chOff x="3393000" y="5435640"/>
            <a:chExt cx="5450760" cy="584280"/>
          </a:xfrm>
        </p:grpSpPr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4267080" y="5435640"/>
              <a:ext cx="23616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3393000" y="5548320"/>
              <a:ext cx="545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he                                   button when finishe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895480" y="546084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eparing the Projec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Introduction to Blog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tivate Your New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8333" t="-441" r="0" b="0"/>
          <a:stretch/>
        </p:blipFill>
        <p:spPr>
          <a:xfrm>
            <a:off x="533520" y="1752480"/>
            <a:ext cx="5867280" cy="648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124080" y="2741760"/>
            <a:ext cx="6019920" cy="8571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76320" y="3886200"/>
            <a:ext cx="6286320" cy="2219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013160" y="1828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y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27417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ate Sty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un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434196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ctive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ppear after the currently activ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175248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819520"/>
            <a:ext cx="53316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44197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48120" y="2117880"/>
            <a:ext cx="2071800" cy="1349280"/>
          </a:xfrm>
          <a:custGeom>
            <a:avLst/>
            <a:gdLst/>
            <a:ahLst/>
            <a:rect l="l" t="t" r="r" b="b"/>
            <a:pathLst>
              <a:path w="5756" h="3751">
                <a:moveTo>
                  <a:pt x="15247" y="6033"/>
                </a:moveTo>
                <a:cubicBezTo>
                  <a:pt x="15254" y="6022"/>
                  <a:pt x="15257" y="6012"/>
                  <a:pt x="15267" y="6000"/>
                </a:cubicBezTo>
                <a:cubicBezTo>
                  <a:pt x="15291" y="5972"/>
                  <a:pt x="15328" y="5950"/>
                  <a:pt x="15363" y="5937"/>
                </a:cubicBezTo>
                <a:cubicBezTo>
                  <a:pt x="15458" y="5900"/>
                  <a:pt x="15566" y="5886"/>
                  <a:pt x="15667" y="5882"/>
                </a:cubicBezTo>
                <a:cubicBezTo>
                  <a:pt x="15918" y="5872"/>
                  <a:pt x="16230" y="5921"/>
                  <a:pt x="16445" y="6053"/>
                </a:cubicBezTo>
                <a:cubicBezTo>
                  <a:pt x="16544" y="6114"/>
                  <a:pt x="16713" y="6227"/>
                  <a:pt x="16722" y="6358"/>
                </a:cubicBezTo>
                <a:cubicBezTo>
                  <a:pt x="16730" y="6473"/>
                  <a:pt x="16627" y="6537"/>
                  <a:pt x="16539" y="6580"/>
                </a:cubicBezTo>
                <a:cubicBezTo>
                  <a:pt x="16394" y="6651"/>
                  <a:pt x="16225" y="6671"/>
                  <a:pt x="16065" y="6678"/>
                </a:cubicBezTo>
                <a:cubicBezTo>
                  <a:pt x="15876" y="6686"/>
                  <a:pt x="15684" y="6660"/>
                  <a:pt x="15502" y="6610"/>
                </a:cubicBezTo>
                <a:cubicBezTo>
                  <a:pt x="15358" y="6570"/>
                  <a:pt x="15174" y="6513"/>
                  <a:pt x="15110" y="6364"/>
                </a:cubicBezTo>
                <a:cubicBezTo>
                  <a:pt x="15077" y="6286"/>
                  <a:pt x="15090" y="6190"/>
                  <a:pt x="15137" y="6120"/>
                </a:cubicBezTo>
                <a:cubicBezTo>
                  <a:pt x="15193" y="6036"/>
                  <a:pt x="15253" y="5997"/>
                  <a:pt x="15349" y="5976"/>
                </a:cubicBezTo>
                <a:cubicBezTo>
                  <a:pt x="15372" y="5972"/>
                  <a:pt x="15395" y="5967"/>
                  <a:pt x="15418" y="5963"/>
                </a:cubicBezTo>
              </a:path>
              <a:path w="5756" h="3751">
                <a:moveTo>
                  <a:pt x="11216" y="8886"/>
                </a:moveTo>
                <a:cubicBezTo>
                  <a:pt x="11247" y="8873"/>
                  <a:pt x="11277" y="8857"/>
                  <a:pt x="11309" y="8845"/>
                </a:cubicBezTo>
                <a:cubicBezTo>
                  <a:pt x="11898" y="8619"/>
                  <a:pt x="12558" y="8539"/>
                  <a:pt x="13184" y="8521"/>
                </a:cubicBezTo>
                <a:cubicBezTo>
                  <a:pt x="13544" y="8511"/>
                  <a:pt x="13899" y="8535"/>
                  <a:pt x="14250" y="8618"/>
                </a:cubicBezTo>
                <a:cubicBezTo>
                  <a:pt x="14508" y="8679"/>
                  <a:pt x="14859" y="8789"/>
                  <a:pt x="14974" y="9057"/>
                </a:cubicBezTo>
                <a:cubicBezTo>
                  <a:pt x="15051" y="9236"/>
                  <a:pt x="14895" y="9365"/>
                  <a:pt x="14747" y="9435"/>
                </a:cubicBezTo>
                <a:cubicBezTo>
                  <a:pt x="14451" y="9575"/>
                  <a:pt x="14083" y="9590"/>
                  <a:pt x="13764" y="9612"/>
                </a:cubicBezTo>
                <a:cubicBezTo>
                  <a:pt x="13059" y="9661"/>
                  <a:pt x="12323" y="9648"/>
                  <a:pt x="11623" y="9547"/>
                </a:cubicBezTo>
                <a:cubicBezTo>
                  <a:pt x="11379" y="9512"/>
                  <a:pt x="11117" y="9486"/>
                  <a:pt x="10967" y="9282"/>
                </a:cubicBezTo>
                <a:cubicBezTo>
                  <a:pt x="11055" y="9125"/>
                  <a:pt x="11169" y="9049"/>
                  <a:pt x="11333" y="8967"/>
                </a:cubicBezTo>
                <a:cubicBezTo>
                  <a:pt x="11507" y="8881"/>
                  <a:pt x="11687" y="8831"/>
                  <a:pt x="11872" y="8775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123720" y="4724280"/>
            <a:ext cx="3429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Note on Sty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are design-oriented, spend some time on your own creating your own sty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uarespace makes it easy to switch between styles that already exi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change the entire look of your site simply by activating a different style!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eparing the Projec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Images and Files on Your Sit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ding Images and Fi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uarespace provides all free accounts with 20 MB (roughly 20 floppy disks) worth of file sp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ages and other files are first </a:t>
            </a:r>
            <a:r>
              <a:rPr b="0" lang="en-US" sz="3000" spc="-1" strike="noStrike">
                <a:solidFill>
                  <a:srgbClr val="006633"/>
                </a:solidFill>
                <a:latin typeface="Bauhaus 93"/>
              </a:rPr>
              <a:t>upload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y a user fro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 compu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Squarespace comput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Uploaded files are saved in </a:t>
            </a:r>
            <a:r>
              <a:rPr b="0" lang="en-US" sz="3000" spc="-1" strike="noStrike">
                <a:solidFill>
                  <a:srgbClr val="006633"/>
                </a:solidFill>
                <a:latin typeface="Bauhaus 93"/>
              </a:rPr>
              <a:t>General Stor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loaded images and files can then be used in a Squarespace site (in a journal entry, et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n General Stor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3094200"/>
            <a:ext cx="8153640" cy="958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302120" y="2413080"/>
            <a:ext cx="29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77680" y="4281480"/>
            <a:ext cx="40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stor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16002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2362320"/>
            <a:ext cx="53316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41911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495288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rest of this tutorial, a series of links starting from the Website Manager will be written in this shortened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ource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l sto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781680" y="3976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2757600"/>
            <a:ext cx="198144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4984920"/>
            <a:ext cx="53316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44440" y="1676520"/>
            <a:ext cx="31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New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6220080" cy="1562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171880" y="2475000"/>
            <a:ext cx="1803240" cy="603000"/>
          </a:xfrm>
          <a:custGeom>
            <a:avLst/>
            <a:gdLst/>
            <a:ahLst/>
            <a:rect l="l" t="t" r="r" b="b"/>
            <a:pathLst>
              <a:path w="5009" h="1676">
                <a:moveTo>
                  <a:pt x="6451" y="7069"/>
                </a:moveTo>
                <a:cubicBezTo>
                  <a:pt x="6521" y="7042"/>
                  <a:pt x="6596" y="7006"/>
                  <a:pt x="6679" y="6985"/>
                </a:cubicBezTo>
                <a:cubicBezTo>
                  <a:pt x="7844" y="6690"/>
                  <a:pt x="9123" y="6935"/>
                  <a:pt x="10183" y="7448"/>
                </a:cubicBezTo>
                <a:cubicBezTo>
                  <a:pt x="10443" y="7574"/>
                  <a:pt x="10749" y="7705"/>
                  <a:pt x="10941" y="7928"/>
                </a:cubicBezTo>
                <a:cubicBezTo>
                  <a:pt x="11052" y="8057"/>
                  <a:pt x="11070" y="8173"/>
                  <a:pt x="10963" y="8300"/>
                </a:cubicBezTo>
                <a:cubicBezTo>
                  <a:pt x="10815" y="8475"/>
                  <a:pt x="10447" y="8517"/>
                  <a:pt x="10245" y="8536"/>
                </a:cubicBezTo>
                <a:cubicBezTo>
                  <a:pt x="9359" y="8619"/>
                  <a:pt x="8471" y="8462"/>
                  <a:pt x="7609" y="8275"/>
                </a:cubicBezTo>
                <a:cubicBezTo>
                  <a:pt x="7151" y="8176"/>
                  <a:pt x="6662" y="8060"/>
                  <a:pt x="6241" y="7846"/>
                </a:cubicBezTo>
                <a:cubicBezTo>
                  <a:pt x="6027" y="7737"/>
                  <a:pt x="5997" y="7563"/>
                  <a:pt x="6105" y="7367"/>
                </a:cubicBezTo>
                <a:cubicBezTo>
                  <a:pt x="6190" y="7213"/>
                  <a:pt x="6467" y="7130"/>
                  <a:pt x="6621" y="7092"/>
                </a:cubicBezTo>
                <a:cubicBezTo>
                  <a:pt x="6875" y="7029"/>
                  <a:pt x="7125" y="7027"/>
                  <a:pt x="7384" y="7011"/>
                </a:cubicBezTo>
                <a:cubicBezTo>
                  <a:pt x="7438" y="7007"/>
                  <a:pt x="7493" y="7002"/>
                  <a:pt x="7547" y="6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32960" y="327672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Direc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New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6248160" cy="44337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236600" y="2227320"/>
            <a:ext cx="2589120" cy="866880"/>
          </a:xfrm>
          <a:custGeom>
            <a:avLst/>
            <a:gdLst/>
            <a:ahLst/>
            <a:rect l="l" t="t" r="r" b="b"/>
            <a:pathLst>
              <a:path w="7189" h="2406">
                <a:moveTo>
                  <a:pt x="4535" y="6602"/>
                </a:moveTo>
                <a:cubicBezTo>
                  <a:pt x="4565" y="6562"/>
                  <a:pt x="4551" y="6511"/>
                  <a:pt x="4597" y="6471"/>
                </a:cubicBezTo>
                <a:cubicBezTo>
                  <a:pt x="4691" y="6390"/>
                  <a:pt x="4787" y="6353"/>
                  <a:pt x="4904" y="6309"/>
                </a:cubicBezTo>
                <a:cubicBezTo>
                  <a:pt x="5578" y="6057"/>
                  <a:pt x="6496" y="6176"/>
                  <a:pt x="7186" y="6259"/>
                </a:cubicBezTo>
                <a:cubicBezTo>
                  <a:pt x="8134" y="6373"/>
                  <a:pt x="9201" y="6537"/>
                  <a:pt x="10028" y="7047"/>
                </a:cubicBezTo>
                <a:cubicBezTo>
                  <a:pt x="10227" y="7170"/>
                  <a:pt x="10516" y="7377"/>
                  <a:pt x="10587" y="7619"/>
                </a:cubicBezTo>
                <a:cubicBezTo>
                  <a:pt x="10688" y="7964"/>
                  <a:pt x="10519" y="8194"/>
                  <a:pt x="10202" y="8337"/>
                </a:cubicBezTo>
                <a:cubicBezTo>
                  <a:pt x="9858" y="8492"/>
                  <a:pt x="9470" y="8572"/>
                  <a:pt x="9096" y="8592"/>
                </a:cubicBezTo>
                <a:cubicBezTo>
                  <a:pt x="7701" y="8666"/>
                  <a:pt x="6185" y="8377"/>
                  <a:pt x="4870" y="7923"/>
                </a:cubicBezTo>
                <a:cubicBezTo>
                  <a:pt x="4477" y="7787"/>
                  <a:pt x="4043" y="7611"/>
                  <a:pt x="3710" y="7356"/>
                </a:cubicBezTo>
                <a:cubicBezTo>
                  <a:pt x="3571" y="7249"/>
                  <a:pt x="3341" y="7025"/>
                  <a:pt x="3476" y="6829"/>
                </a:cubicBezTo>
                <a:cubicBezTo>
                  <a:pt x="3657" y="6565"/>
                  <a:pt x="4124" y="6512"/>
                  <a:pt x="4404" y="6456"/>
                </a:cubicBezTo>
                <a:cubicBezTo>
                  <a:pt x="4764" y="6384"/>
                  <a:pt x="5125" y="6359"/>
                  <a:pt x="5491" y="6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95880" y="146052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your new directo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urnal Images and Fi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amp; Clo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778280" y="5124600"/>
            <a:ext cx="2173320" cy="1071360"/>
          </a:xfrm>
          <a:custGeom>
            <a:avLst/>
            <a:gdLst/>
            <a:ahLst/>
            <a:rect l="l" t="t" r="r" b="b"/>
            <a:pathLst>
              <a:path w="6036" h="2976">
                <a:moveTo>
                  <a:pt x="13466" y="14769"/>
                </a:moveTo>
                <a:cubicBezTo>
                  <a:pt x="13661" y="14544"/>
                  <a:pt x="13806" y="14435"/>
                  <a:pt x="14122" y="14354"/>
                </a:cubicBezTo>
                <a:cubicBezTo>
                  <a:pt x="15229" y="14072"/>
                  <a:pt x="16487" y="14274"/>
                  <a:pt x="17511" y="14741"/>
                </a:cubicBezTo>
                <a:cubicBezTo>
                  <a:pt x="17963" y="14947"/>
                  <a:pt x="18407" y="15208"/>
                  <a:pt x="18773" y="15545"/>
                </a:cubicBezTo>
                <a:cubicBezTo>
                  <a:pt x="19027" y="15780"/>
                  <a:pt x="19386" y="16164"/>
                  <a:pt x="19295" y="16549"/>
                </a:cubicBezTo>
                <a:cubicBezTo>
                  <a:pt x="19198" y="16956"/>
                  <a:pt x="18645" y="17088"/>
                  <a:pt x="18302" y="17151"/>
                </a:cubicBezTo>
                <a:cubicBezTo>
                  <a:pt x="17778" y="17247"/>
                  <a:pt x="17232" y="17223"/>
                  <a:pt x="16707" y="17153"/>
                </a:cubicBezTo>
                <a:cubicBezTo>
                  <a:pt x="16132" y="17076"/>
                  <a:pt x="15567" y="16913"/>
                  <a:pt x="15028" y="16701"/>
                </a:cubicBezTo>
                <a:cubicBezTo>
                  <a:pt x="14568" y="16520"/>
                  <a:pt x="14126" y="16290"/>
                  <a:pt x="13743" y="15976"/>
                </a:cubicBezTo>
                <a:cubicBezTo>
                  <a:pt x="13538" y="15808"/>
                  <a:pt x="13264" y="15571"/>
                  <a:pt x="13272" y="15278"/>
                </a:cubicBezTo>
                <a:cubicBezTo>
                  <a:pt x="13279" y="15023"/>
                  <a:pt x="13580" y="14936"/>
                  <a:pt x="13778" y="14896"/>
                </a:cubicBezTo>
                <a:cubicBezTo>
                  <a:pt x="14022" y="14846"/>
                  <a:pt x="14268" y="14858"/>
                  <a:pt x="14515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New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995760" y="3429000"/>
            <a:ext cx="633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you have a folder that you can save images and file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 Images and Fi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533520" y="1219320"/>
            <a:ext cx="7009920" cy="1631520"/>
            <a:chOff x="533520" y="1219320"/>
            <a:chExt cx="7009920" cy="1631520"/>
          </a:xfrm>
        </p:grpSpPr>
        <p:pic>
          <p:nvPicPr>
            <p:cNvPr id="395" name="" descr=""/>
            <p:cNvPicPr/>
            <p:nvPr/>
          </p:nvPicPr>
          <p:blipFill>
            <a:blip r:embed="rId1"/>
            <a:stretch/>
          </p:blipFill>
          <p:spPr>
            <a:xfrm>
              <a:off x="533520" y="1219320"/>
              <a:ext cx="7009920" cy="16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920520" y="1731960"/>
              <a:ext cx="1870920" cy="704520"/>
            </a:xfrm>
            <a:custGeom>
              <a:avLst/>
              <a:gdLst/>
              <a:ahLst/>
              <a:rect l="l" t="t" r="r" b="b"/>
              <a:pathLst>
                <a:path w="4521" h="1702">
                  <a:moveTo>
                    <a:pt x="3688" y="6703"/>
                  </a:moveTo>
                  <a:cubicBezTo>
                    <a:pt x="3709" y="6667"/>
                    <a:pt x="3691" y="6625"/>
                    <a:pt x="3734" y="6583"/>
                  </a:cubicBezTo>
                  <a:cubicBezTo>
                    <a:pt x="3829" y="6491"/>
                    <a:pt x="3978" y="6445"/>
                    <a:pt x="4101" y="6413"/>
                  </a:cubicBezTo>
                  <a:cubicBezTo>
                    <a:pt x="4697" y="6257"/>
                    <a:pt x="5315" y="6324"/>
                    <a:pt x="5912" y="6437"/>
                  </a:cubicBezTo>
                  <a:cubicBezTo>
                    <a:pt x="6350" y="6520"/>
                    <a:pt x="6796" y="6645"/>
                    <a:pt x="7195" y="6848"/>
                  </a:cubicBezTo>
                  <a:cubicBezTo>
                    <a:pt x="7406" y="6956"/>
                    <a:pt x="7759" y="7144"/>
                    <a:pt x="7783" y="7416"/>
                  </a:cubicBezTo>
                  <a:cubicBezTo>
                    <a:pt x="7806" y="7669"/>
                    <a:pt x="7472" y="7806"/>
                    <a:pt x="7287" y="7866"/>
                  </a:cubicBezTo>
                  <a:cubicBezTo>
                    <a:pt x="6785" y="8028"/>
                    <a:pt x="6200" y="8031"/>
                    <a:pt x="5678" y="8016"/>
                  </a:cubicBezTo>
                  <a:cubicBezTo>
                    <a:pt x="4978" y="7996"/>
                    <a:pt x="4166" y="7953"/>
                    <a:pt x="3532" y="7624"/>
                  </a:cubicBezTo>
                  <a:cubicBezTo>
                    <a:pt x="3364" y="7537"/>
                    <a:pt x="3328" y="7477"/>
                    <a:pt x="3263" y="7317"/>
                  </a:cubicBezTo>
                  <a:cubicBezTo>
                    <a:pt x="3343" y="7096"/>
                    <a:pt x="3473" y="7015"/>
                    <a:pt x="3695" y="6919"/>
                  </a:cubicBezTo>
                  <a:cubicBezTo>
                    <a:pt x="3974" y="6799"/>
                    <a:pt x="4287" y="6754"/>
                    <a:pt x="4586" y="6715"/>
                  </a:cubicBezTo>
                  <a:cubicBezTo>
                    <a:pt x="4654" y="6707"/>
                    <a:pt x="4723" y="6700"/>
                    <a:pt x="4791" y="669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d an Image to Your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6076800" cy="13716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280520" y="338940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load Fi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46480" y="2041560"/>
            <a:ext cx="2220840" cy="765000"/>
          </a:xfrm>
          <a:custGeom>
            <a:avLst/>
            <a:gdLst/>
            <a:ahLst/>
            <a:rect l="l" t="t" r="r" b="b"/>
            <a:pathLst>
              <a:path w="6169" h="2126">
                <a:moveTo>
                  <a:pt x="13206" y="5801"/>
                </a:moveTo>
                <a:cubicBezTo>
                  <a:pt x="14460" y="5662"/>
                  <a:pt x="15834" y="5730"/>
                  <a:pt x="16995" y="6266"/>
                </a:cubicBezTo>
                <a:cubicBezTo>
                  <a:pt x="17250" y="6384"/>
                  <a:pt x="17526" y="6543"/>
                  <a:pt x="17646" y="6810"/>
                </a:cubicBezTo>
                <a:cubicBezTo>
                  <a:pt x="17770" y="7085"/>
                  <a:pt x="17554" y="7313"/>
                  <a:pt x="17324" y="7437"/>
                </a:cubicBezTo>
                <a:cubicBezTo>
                  <a:pt x="16785" y="7728"/>
                  <a:pt x="16055" y="7746"/>
                  <a:pt x="15459" y="7778"/>
                </a:cubicBezTo>
                <a:cubicBezTo>
                  <a:pt x="14662" y="7821"/>
                  <a:pt x="13791" y="7861"/>
                  <a:pt x="13004" y="7707"/>
                </a:cubicBezTo>
                <a:cubicBezTo>
                  <a:pt x="12593" y="7626"/>
                  <a:pt x="12187" y="7471"/>
                  <a:pt x="11869" y="7193"/>
                </a:cubicBezTo>
                <a:cubicBezTo>
                  <a:pt x="11644" y="6997"/>
                  <a:pt x="11480" y="6707"/>
                  <a:pt x="11517" y="6398"/>
                </a:cubicBezTo>
                <a:cubicBezTo>
                  <a:pt x="11554" y="6085"/>
                  <a:pt x="11876" y="5929"/>
                  <a:pt x="12138" y="5837"/>
                </a:cubicBezTo>
                <a:cubicBezTo>
                  <a:pt x="12643" y="5660"/>
                  <a:pt x="13208" y="5670"/>
                  <a:pt x="13736" y="5679"/>
                </a:cubicBezTo>
                <a:cubicBezTo>
                  <a:pt x="13985" y="5683"/>
                  <a:pt x="14226" y="5710"/>
                  <a:pt x="14473" y="5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load a Pi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6305760" cy="349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41360" y="1179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time you upload a file, you will be automatically asked to install an ActiveX control.  Click OK to install this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040" y="2322360"/>
            <a:ext cx="192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Fi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picture on your computer that you can add to your b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94040" y="5213520"/>
            <a:ext cx="995400" cy="623880"/>
          </a:xfrm>
          <a:custGeom>
            <a:avLst/>
            <a:gdLst/>
            <a:ahLst/>
            <a:rect l="l" t="t" r="r" b="b"/>
            <a:pathLst>
              <a:path w="2767" h="1733">
                <a:moveTo>
                  <a:pt x="10926" y="14794"/>
                </a:moveTo>
                <a:cubicBezTo>
                  <a:pt x="10904" y="14740"/>
                  <a:pt x="10854" y="14719"/>
                  <a:pt x="10901" y="14658"/>
                </a:cubicBezTo>
                <a:cubicBezTo>
                  <a:pt x="10969" y="14571"/>
                  <a:pt x="11111" y="14535"/>
                  <a:pt x="11213" y="14513"/>
                </a:cubicBezTo>
                <a:cubicBezTo>
                  <a:pt x="11464" y="14459"/>
                  <a:pt x="11746" y="14473"/>
                  <a:pt x="11998" y="14506"/>
                </a:cubicBezTo>
                <a:cubicBezTo>
                  <a:pt x="12502" y="14572"/>
                  <a:pt x="13113" y="14833"/>
                  <a:pt x="13276" y="15363"/>
                </a:cubicBezTo>
                <a:cubicBezTo>
                  <a:pt x="13352" y="15610"/>
                  <a:pt x="13275" y="15848"/>
                  <a:pt x="13080" y="16008"/>
                </a:cubicBezTo>
                <a:cubicBezTo>
                  <a:pt x="12835" y="16209"/>
                  <a:pt x="12482" y="16228"/>
                  <a:pt x="12181" y="16213"/>
                </a:cubicBezTo>
                <a:cubicBezTo>
                  <a:pt x="11727" y="16191"/>
                  <a:pt x="11251" y="16056"/>
                  <a:pt x="10889" y="15773"/>
                </a:cubicBezTo>
                <a:cubicBezTo>
                  <a:pt x="10699" y="15624"/>
                  <a:pt x="10524" y="15404"/>
                  <a:pt x="10538" y="15149"/>
                </a:cubicBezTo>
                <a:cubicBezTo>
                  <a:pt x="10549" y="14942"/>
                  <a:pt x="10682" y="14777"/>
                  <a:pt x="10832" y="14649"/>
                </a:cubicBezTo>
                <a:cubicBezTo>
                  <a:pt x="10870" y="14621"/>
                  <a:pt x="10907" y="14594"/>
                  <a:pt x="10945" y="145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86600" y="5167440"/>
            <a:ext cx="995400" cy="623880"/>
          </a:xfrm>
          <a:custGeom>
            <a:avLst/>
            <a:gdLst/>
            <a:ahLst/>
            <a:rect l="l" t="t" r="r" b="b"/>
            <a:pathLst>
              <a:path w="2767" h="1733">
                <a:moveTo>
                  <a:pt x="10926" y="14794"/>
                </a:moveTo>
                <a:cubicBezTo>
                  <a:pt x="10904" y="14740"/>
                  <a:pt x="10854" y="14719"/>
                  <a:pt x="10901" y="14658"/>
                </a:cubicBezTo>
                <a:cubicBezTo>
                  <a:pt x="10969" y="14571"/>
                  <a:pt x="11111" y="14535"/>
                  <a:pt x="11213" y="14513"/>
                </a:cubicBezTo>
                <a:cubicBezTo>
                  <a:pt x="11464" y="14459"/>
                  <a:pt x="11746" y="14473"/>
                  <a:pt x="11998" y="14506"/>
                </a:cubicBezTo>
                <a:cubicBezTo>
                  <a:pt x="12502" y="14572"/>
                  <a:pt x="13113" y="14833"/>
                  <a:pt x="13276" y="15363"/>
                </a:cubicBezTo>
                <a:cubicBezTo>
                  <a:pt x="13352" y="15610"/>
                  <a:pt x="13275" y="15848"/>
                  <a:pt x="13080" y="16008"/>
                </a:cubicBezTo>
                <a:cubicBezTo>
                  <a:pt x="12835" y="16209"/>
                  <a:pt x="12482" y="16228"/>
                  <a:pt x="12181" y="16213"/>
                </a:cubicBezTo>
                <a:cubicBezTo>
                  <a:pt x="11727" y="16191"/>
                  <a:pt x="11251" y="16056"/>
                  <a:pt x="10889" y="15773"/>
                </a:cubicBezTo>
                <a:cubicBezTo>
                  <a:pt x="10699" y="15624"/>
                  <a:pt x="10524" y="15404"/>
                  <a:pt x="10538" y="15149"/>
                </a:cubicBezTo>
                <a:cubicBezTo>
                  <a:pt x="10549" y="14942"/>
                  <a:pt x="10682" y="14777"/>
                  <a:pt x="10832" y="14649"/>
                </a:cubicBezTo>
                <a:cubicBezTo>
                  <a:pt x="10870" y="14621"/>
                  <a:pt x="10907" y="14594"/>
                  <a:pt x="10945" y="145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gs and Personal Publis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006633"/>
                </a:solidFill>
                <a:latin typeface="Bauhaus 93"/>
              </a:rPr>
              <a:t>blo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3000" spc="-1" strike="noStrike">
                <a:solidFill>
                  <a:srgbClr val="006633"/>
                </a:solidFill>
                <a:latin typeface="Bauhaus 93"/>
              </a:rPr>
              <a:t>web lo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an online jour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gs require little to n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3000" spc="-1" strike="noStrike">
                <a:solidFill>
                  <a:srgbClr val="006633"/>
                </a:solidFill>
                <a:latin typeface="Bauhaus 93"/>
              </a:rPr>
              <a:t>Blogg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cus on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ir blogs instead of the technical det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gs led to </a:t>
            </a:r>
            <a:r>
              <a:rPr b="0" lang="en-US" sz="3000" spc="-1" strike="noStrike">
                <a:solidFill>
                  <a:srgbClr val="006633"/>
                </a:solidFill>
                <a:latin typeface="Bauhaus 93"/>
              </a:rPr>
              <a:t>personal publishing softwa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hich lets users create entire web sites without specific knowledge of HTML, web templates, or expensive applic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Publishing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fu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load a Pi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5343480" cy="14479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441360" y="1484280"/>
            <a:ext cx="2301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Uploading… window will appear with the status of your up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Computers connected to the NYCDOE students network are limited to an upload of 1MB.  Your picture will not upload if it is bigger than 1 M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load a Pi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620120" cy="2097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25240" y="3541680"/>
            <a:ext cx="79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r picture uploaded properly, its name should appear, along with its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6120" y="2147760"/>
            <a:ext cx="3119400" cy="860400"/>
          </a:xfrm>
          <a:custGeom>
            <a:avLst/>
            <a:gdLst/>
            <a:ahLst/>
            <a:rect l="l" t="t" r="r" b="b"/>
            <a:pathLst>
              <a:path w="8663" h="2389">
                <a:moveTo>
                  <a:pt x="2653" y="6531"/>
                </a:moveTo>
                <a:cubicBezTo>
                  <a:pt x="2694" y="6493"/>
                  <a:pt x="2719" y="6437"/>
                  <a:pt x="2775" y="6398"/>
                </a:cubicBezTo>
                <a:cubicBezTo>
                  <a:pt x="3249" y="6066"/>
                  <a:pt x="3991" y="6025"/>
                  <a:pt x="4541" y="5987"/>
                </a:cubicBezTo>
                <a:cubicBezTo>
                  <a:pt x="6100" y="5878"/>
                  <a:pt x="7860" y="6165"/>
                  <a:pt x="9302" y="6773"/>
                </a:cubicBezTo>
                <a:cubicBezTo>
                  <a:pt x="9561" y="6882"/>
                  <a:pt x="10086" y="7119"/>
                  <a:pt x="10153" y="7444"/>
                </a:cubicBezTo>
                <a:cubicBezTo>
                  <a:pt x="10208" y="7710"/>
                  <a:pt x="10119" y="7741"/>
                  <a:pt x="9925" y="7893"/>
                </a:cubicBezTo>
                <a:cubicBezTo>
                  <a:pt x="9476" y="8243"/>
                  <a:pt x="8614" y="8213"/>
                  <a:pt x="8084" y="8268"/>
                </a:cubicBezTo>
                <a:cubicBezTo>
                  <a:pt x="7477" y="8330"/>
                  <a:pt x="6886" y="8365"/>
                  <a:pt x="6275" y="8352"/>
                </a:cubicBezTo>
                <a:cubicBezTo>
                  <a:pt x="4927" y="8323"/>
                  <a:pt x="3479" y="8181"/>
                  <a:pt x="2264" y="7557"/>
                </a:cubicBezTo>
                <a:cubicBezTo>
                  <a:pt x="1989" y="7416"/>
                  <a:pt x="1490" y="7158"/>
                  <a:pt x="1519" y="6773"/>
                </a:cubicBezTo>
                <a:cubicBezTo>
                  <a:pt x="1537" y="6541"/>
                  <a:pt x="1764" y="6420"/>
                  <a:pt x="1948" y="6336"/>
                </a:cubicBezTo>
                <a:cubicBezTo>
                  <a:pt x="2015" y="6310"/>
                  <a:pt x="2083" y="6283"/>
                  <a:pt x="2150" y="62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3047760" cy="7923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795480" y="45324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to web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Journal Entry with a Pi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733920" y="1695600"/>
            <a:ext cx="5181480" cy="42638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69000" y="114300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your Journal and 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 New Journal E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1523880"/>
            <a:ext cx="3368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Test Post with a Pic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title of your journal 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a paragraph describing your picture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 e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your cursor to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ginning of your para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wit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71800" y="213372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327672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905120" y="4648320"/>
            <a:ext cx="1295280" cy="1187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flipV="1">
            <a:off x="3200400" y="3200040"/>
            <a:ext cx="38098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505320" y="34286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Journal Entry with a Pi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362400" y="1066680"/>
            <a:ext cx="5400720" cy="49737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89080" y="1255680"/>
            <a:ext cx="283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Sto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 Images and Fi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name of the image you uploa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wra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opdown menu, cho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xt should flow to the right (image on lef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Im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09680" y="1447920"/>
            <a:ext cx="2514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33720" y="2514600"/>
            <a:ext cx="2819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743200" y="304776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66880" y="4648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666880" y="5486400"/>
            <a:ext cx="3124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Journal Entry with a Pi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365040" y="1322280"/>
            <a:ext cx="1311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icture will appear in your journal entr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a basic knowledge of HTML, you can modify your code by clicking the &lt;&gt; i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781680" cy="3914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 flipV="1">
            <a:off x="1676520" y="1447560"/>
            <a:ext cx="495288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03440" y="5424480"/>
            <a:ext cx="37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amp; Clo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095880" y="4952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load a F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6305760" cy="3493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65040" y="2550960"/>
            <a:ext cx="192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Fi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ile on your computer that you can link to from your b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94040" y="5442120"/>
            <a:ext cx="995400" cy="623880"/>
          </a:xfrm>
          <a:custGeom>
            <a:avLst/>
            <a:gdLst/>
            <a:ahLst/>
            <a:rect l="l" t="t" r="r" b="b"/>
            <a:pathLst>
              <a:path w="2767" h="1733">
                <a:moveTo>
                  <a:pt x="10926" y="14794"/>
                </a:moveTo>
                <a:cubicBezTo>
                  <a:pt x="10904" y="14740"/>
                  <a:pt x="10854" y="14719"/>
                  <a:pt x="10901" y="14658"/>
                </a:cubicBezTo>
                <a:cubicBezTo>
                  <a:pt x="10969" y="14571"/>
                  <a:pt x="11111" y="14535"/>
                  <a:pt x="11213" y="14513"/>
                </a:cubicBezTo>
                <a:cubicBezTo>
                  <a:pt x="11464" y="14459"/>
                  <a:pt x="11746" y="14473"/>
                  <a:pt x="11998" y="14506"/>
                </a:cubicBezTo>
                <a:cubicBezTo>
                  <a:pt x="12502" y="14572"/>
                  <a:pt x="13113" y="14833"/>
                  <a:pt x="13276" y="15363"/>
                </a:cubicBezTo>
                <a:cubicBezTo>
                  <a:pt x="13352" y="15610"/>
                  <a:pt x="13275" y="15848"/>
                  <a:pt x="13080" y="16008"/>
                </a:cubicBezTo>
                <a:cubicBezTo>
                  <a:pt x="12835" y="16209"/>
                  <a:pt x="12482" y="16228"/>
                  <a:pt x="12181" y="16213"/>
                </a:cubicBezTo>
                <a:cubicBezTo>
                  <a:pt x="11727" y="16191"/>
                  <a:pt x="11251" y="16056"/>
                  <a:pt x="10889" y="15773"/>
                </a:cubicBezTo>
                <a:cubicBezTo>
                  <a:pt x="10699" y="15624"/>
                  <a:pt x="10524" y="15404"/>
                  <a:pt x="10538" y="15149"/>
                </a:cubicBezTo>
                <a:cubicBezTo>
                  <a:pt x="10549" y="14942"/>
                  <a:pt x="10682" y="14777"/>
                  <a:pt x="10832" y="14649"/>
                </a:cubicBezTo>
                <a:cubicBezTo>
                  <a:pt x="10870" y="14621"/>
                  <a:pt x="10907" y="14594"/>
                  <a:pt x="10945" y="145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86600" y="5396040"/>
            <a:ext cx="995400" cy="623880"/>
          </a:xfrm>
          <a:custGeom>
            <a:avLst/>
            <a:gdLst/>
            <a:ahLst/>
            <a:rect l="l" t="t" r="r" b="b"/>
            <a:pathLst>
              <a:path w="2767" h="1733">
                <a:moveTo>
                  <a:pt x="10926" y="14794"/>
                </a:moveTo>
                <a:cubicBezTo>
                  <a:pt x="10904" y="14740"/>
                  <a:pt x="10854" y="14719"/>
                  <a:pt x="10901" y="14658"/>
                </a:cubicBezTo>
                <a:cubicBezTo>
                  <a:pt x="10969" y="14571"/>
                  <a:pt x="11111" y="14535"/>
                  <a:pt x="11213" y="14513"/>
                </a:cubicBezTo>
                <a:cubicBezTo>
                  <a:pt x="11464" y="14459"/>
                  <a:pt x="11746" y="14473"/>
                  <a:pt x="11998" y="14506"/>
                </a:cubicBezTo>
                <a:cubicBezTo>
                  <a:pt x="12502" y="14572"/>
                  <a:pt x="13113" y="14833"/>
                  <a:pt x="13276" y="15363"/>
                </a:cubicBezTo>
                <a:cubicBezTo>
                  <a:pt x="13352" y="15610"/>
                  <a:pt x="13275" y="15848"/>
                  <a:pt x="13080" y="16008"/>
                </a:cubicBezTo>
                <a:cubicBezTo>
                  <a:pt x="12835" y="16209"/>
                  <a:pt x="12482" y="16228"/>
                  <a:pt x="12181" y="16213"/>
                </a:cubicBezTo>
                <a:cubicBezTo>
                  <a:pt x="11727" y="16191"/>
                  <a:pt x="11251" y="16056"/>
                  <a:pt x="10889" y="15773"/>
                </a:cubicBezTo>
                <a:cubicBezTo>
                  <a:pt x="10699" y="15624"/>
                  <a:pt x="10524" y="15404"/>
                  <a:pt x="10538" y="15149"/>
                </a:cubicBezTo>
                <a:cubicBezTo>
                  <a:pt x="10549" y="14942"/>
                  <a:pt x="10682" y="14777"/>
                  <a:pt x="10832" y="14649"/>
                </a:cubicBezTo>
                <a:cubicBezTo>
                  <a:pt x="10870" y="14621"/>
                  <a:pt x="10907" y="14594"/>
                  <a:pt x="10945" y="145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1240" y="1066680"/>
            <a:ext cx="780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ource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l sto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 Files and Im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.  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load Fi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load a F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639200" cy="22888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768240" y="1371600"/>
            <a:ext cx="668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r file uploaded properly, it should appear in your list of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your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36600" y="3925800"/>
            <a:ext cx="2014560" cy="536760"/>
          </a:xfrm>
          <a:custGeom>
            <a:avLst/>
            <a:gdLst/>
            <a:ahLst/>
            <a:rect l="l" t="t" r="r" b="b"/>
            <a:pathLst>
              <a:path w="5599" h="1487">
                <a:moveTo>
                  <a:pt x="3897" y="11393"/>
                </a:moveTo>
                <a:cubicBezTo>
                  <a:pt x="3910" y="11385"/>
                  <a:pt x="3925" y="11359"/>
                  <a:pt x="3948" y="11348"/>
                </a:cubicBezTo>
                <a:cubicBezTo>
                  <a:pt x="4016" y="11315"/>
                  <a:pt x="4088" y="11295"/>
                  <a:pt x="4161" y="11273"/>
                </a:cubicBezTo>
                <a:cubicBezTo>
                  <a:pt x="4296" y="11231"/>
                  <a:pt x="4430" y="11183"/>
                  <a:pt x="4565" y="11142"/>
                </a:cubicBezTo>
                <a:cubicBezTo>
                  <a:pt x="4822" y="11064"/>
                  <a:pt x="5087" y="10996"/>
                  <a:pt x="5353" y="10956"/>
                </a:cubicBezTo>
                <a:cubicBezTo>
                  <a:pt x="5643" y="10912"/>
                  <a:pt x="5930" y="10895"/>
                  <a:pt x="6224" y="10913"/>
                </a:cubicBezTo>
                <a:cubicBezTo>
                  <a:pt x="6995" y="10961"/>
                  <a:pt x="8002" y="11071"/>
                  <a:pt x="8698" y="11438"/>
                </a:cubicBezTo>
                <a:cubicBezTo>
                  <a:pt x="8845" y="11516"/>
                  <a:pt x="9108" y="11733"/>
                  <a:pt x="9016" y="11933"/>
                </a:cubicBezTo>
                <a:cubicBezTo>
                  <a:pt x="8945" y="12087"/>
                  <a:pt x="8679" y="12113"/>
                  <a:pt x="8539" y="12136"/>
                </a:cubicBezTo>
                <a:cubicBezTo>
                  <a:pt x="8105" y="12209"/>
                  <a:pt x="7659" y="12249"/>
                  <a:pt x="7222" y="12295"/>
                </a:cubicBezTo>
                <a:cubicBezTo>
                  <a:pt x="6676" y="12352"/>
                  <a:pt x="6117" y="12405"/>
                  <a:pt x="5568" y="12389"/>
                </a:cubicBezTo>
                <a:cubicBezTo>
                  <a:pt x="4998" y="12373"/>
                  <a:pt x="4377" y="12312"/>
                  <a:pt x="3841" y="12104"/>
                </a:cubicBezTo>
                <a:cubicBezTo>
                  <a:pt x="3698" y="12048"/>
                  <a:pt x="3386" y="11915"/>
                  <a:pt x="3433" y="11704"/>
                </a:cubicBezTo>
                <a:cubicBezTo>
                  <a:pt x="3479" y="11498"/>
                  <a:pt x="3763" y="11407"/>
                  <a:pt x="3936" y="11359"/>
                </a:cubicBezTo>
                <a:cubicBezTo>
                  <a:pt x="4173" y="11293"/>
                  <a:pt x="4420" y="11263"/>
                  <a:pt x="4664" y="11232"/>
                </a:cubicBezTo>
                <a:cubicBezTo>
                  <a:pt x="4723" y="11225"/>
                  <a:pt x="4781" y="11218"/>
                  <a:pt x="4840" y="112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 a File to a Blog 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"/>
          <p:cNvSpPr/>
          <p:nvPr/>
        </p:nvSpPr>
        <p:spPr>
          <a:xfrm>
            <a:off x="265320" y="130968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your Journal.  Create a new journal 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" y="1752480"/>
            <a:ext cx="306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ti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Test Post with a 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some text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 ent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that describes the document you just uploa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text you wish to turn into a hyper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4684680"/>
            <a:ext cx="17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button with a picture of a folder and a chain lin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5105520" cy="3757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124080" y="1981080"/>
            <a:ext cx="1600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289548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2971800" y="34286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124080" y="2971800"/>
            <a:ext cx="32004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 a File to a Blog 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630600" y="990720"/>
            <a:ext cx="4510080" cy="49528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65040" y="1255680"/>
            <a:ext cx="207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document from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 Images and Fi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438280" y="2209680"/>
            <a:ext cx="24386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57400" y="3276720"/>
            <a:ext cx="35053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 a File to a Blog 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724800" cy="4048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12760" y="1200240"/>
            <a:ext cx="169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you previously highlighted is now a hyperlink to your fi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amp; 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3880" y="16002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3657600"/>
            <a:ext cx="4800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nefits of Personal Publis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ublish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We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to change a site’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ayou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publishing is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vers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readers can respond to your thoughts directly on your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site becomes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future refer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About the Welcome Modul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7115400" cy="25146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47840" y="1179360"/>
            <a:ext cx="770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Journal looks great – let’s make the Welcome module look good,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Open the Welcom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p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648320" y="2666880"/>
            <a:ext cx="1828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2057400"/>
            <a:ext cx="3812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dating the Welcome Modu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5238720" cy="40892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365040" y="1179360"/>
            <a:ext cx="253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text that exist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cont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.  Type in your own welcome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 with the font setting dropdown menus for the proper size and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90920" y="16765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388620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 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160" y="2327400"/>
            <a:ext cx="80010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you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ource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l Sto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lder in General Storage nam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come Images and Fi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 a new picture and a new Word document into this f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picture to your Welcom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he Word document to your Welcom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7680" y="129528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s and files are added to the Welcome module in the same way they are added to the Journal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ther Modules in Square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"/>
          <p:cNvSpPr/>
          <p:nvPr/>
        </p:nvSpPr>
        <p:spPr>
          <a:xfrm>
            <a:off x="453600" y="1332000"/>
            <a:ext cx="62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ucture &amp; Style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du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657600" y="1895400"/>
            <a:ext cx="4933800" cy="38196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457200" y="1905120"/>
            <a:ext cx="2911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Mod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space has a number of modules you can add to your site.  We’ve covered the first two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Disp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ur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adding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s or a Picture 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to y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971800" y="342900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124080" y="3733560"/>
            <a:ext cx="14479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Finalizing the Projec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Blogarama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Blogar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“blogarama” is a blog maintained by a number of us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IT has set up a blogarama for participants in this Personal Publishing cou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ogarama is divided in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th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lo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IT Personal Publishing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847800" y="1676520"/>
            <a:ext cx="7153200" cy="42195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0" y="110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oit.squarespac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te to Li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der for participants to receive individual accounts for the blogarama, OIT has to pay Squarespace a monthly membership f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etails of this arrangement are probably best worked out by your off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ve Uses of an Education Blo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class web pa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r posts and observ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tion of in-class discus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project manag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ded student blo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apted from Henry Brighouse, http://www.crookedtimber.org/archives/000516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eparing the Projec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Introduction to Squarespac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nefits of Square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 trial – no credit card requi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stays free as long as you like (ads after 30 day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start simple blo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ontinue to create complex web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9:25:34Z</dcterms:created>
  <dc:creator>New York City</dc:creator>
  <dc:description/>
  <dc:language>en-US</dc:language>
  <cp:lastModifiedBy>New York City</cp:lastModifiedBy>
  <dcterms:modified xsi:type="dcterms:W3CDTF">2004-09-27T06:22:20Z</dcterms:modified>
  <cp:revision>12</cp:revision>
  <dc:subject/>
  <dc:title>Websites &amp; Other Online Tools</dc:title>
</cp:coreProperties>
</file>